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693-0E80-4137-8308-081753DB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93F-C6A4-41DA-9A26-2F0C0A9F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362-4194-4601-BF0E-2417988C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40C-0062-4521-A2E9-7ECCF3D8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8ED9-093C-4AE5-B3FC-9F48F056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DCB2-E932-44F2-AC49-8F28BA8E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3B7D-AE2F-4E62-9477-9BE06548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FCB1-F88E-4CC7-A316-B231C04D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DAAD-62F5-4F5B-8B2A-C79C2C0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D0AB-2927-4810-AA8F-AABD57D1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6D6C-D858-47CB-922C-DC1E5A05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82C-61CB-4B06-9A1A-C24E4A4B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E1F4-476A-4297-B0FC-F64B4A40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4D3C-6D43-4203-A1FE-D38B8A3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3B67-03D2-42BD-AA9A-3CE2CCF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F11-F12F-43D6-BB40-6BBF1254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AC38-DD54-491A-8F67-8D9C61E5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FCA-D0CA-476F-A6D9-591F71AC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6A1-A790-4EBD-A56A-421C0A08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148-BF50-421C-998A-444ADE29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711-1626-41C3-8032-566083D8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254-0A58-45DF-8E6D-6D30863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D44-6A14-42A5-A0D1-23C0C47A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71E-F391-431C-AF15-AF66477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60F0-80DC-46DA-A3CA-AA95A16241DA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123D-9EB2-4D2E-A7B5-24DFEC67555C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3333"/>
                </a:solidFill>
                <a:latin typeface="Adobe Garamond Pro Bold"/>
              </a:rPr>
              <a:t>Farhan jave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7086600" cy="19810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untry         :: Pakista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Me in class    ::</a:t>
            </a:r>
            <a:r>
              <a:rPr b="0" lang="es-ES" sz="2800" spc="-1" strike="noStrike">
                <a:solidFill>
                  <a:srgbClr val="333333"/>
                </a:solidFill>
                <a:latin typeface="Arial"/>
              </a:rPr>
              <a:t> 10th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Arial"/>
              </a:rPr>
              <a:t>My interest</a:t>
            </a:r>
            <a:r>
              <a:rPr b="0" lang="es-ES" sz="2800" spc="-1" strike="noStrike">
                <a:solidFill>
                  <a:srgbClr val="333333"/>
                </a:solidFill>
                <a:latin typeface="Arial"/>
              </a:rPr>
              <a:t>    :: bycyle, tato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My favourite subject</a:t>
            </a:r>
            <a:r>
              <a:rPr b="0" lang="es-ES" sz="2800" spc="-1" strike="noStrike">
                <a:solidFill>
                  <a:srgbClr val="333333"/>
                </a:solidFill>
                <a:latin typeface="Arial"/>
              </a:rPr>
              <a:t>:: scie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5334120"/>
            <a:ext cx="6858000" cy="101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pakistan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45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5:47Z</dcterms:modified>
  <cp:revision>23</cp:revision>
  <dc:subject/>
  <dc:title>MR. HAROON </dc:title>
</cp:coreProperties>
</file>